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D39-3CF0-448D-A3F7-9B1E3FD7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864C-AF2C-4A49-9395-AB1E168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121-5637-43B9-8707-853249BC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9B0-56F2-4302-B535-1643BDA1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1DC3-512E-4F63-9F0A-761A3626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6E60-34D4-4E9E-B170-4C6997CC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E882-0ECB-4788-8B5E-C19E674B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155D-3236-443A-B67D-56DC059E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0C14-B57E-4050-A2B9-3053116F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8BE2-512C-4E47-8C0C-D6222F7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B8C0-1327-485A-BCA9-1D70FA4C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335-FE67-46FE-9623-6E9E070A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392-D633-4CC6-8F27-D5854F0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B261-16ED-4E29-8D53-3C779ACA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228-EB98-418D-978A-3A73CC33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CAD9-71F7-4A27-911A-8BCA8732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59C0-5A12-4D85-A7F7-462396CA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763-49B4-4CFD-A3BA-934ED43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244-2072-4F23-B1EB-51E71276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C99-7AB6-4106-BA90-5760887C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DF9-E620-4921-9FB9-59DCA88D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876-568F-449B-93BA-AD7CB87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11D-7B10-47BD-BE24-5D860AB3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ACF-3F11-4F88-8DE9-F7C3979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D5CD-4381-4ADE-872C-DF1919FF0E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84B-9452-4863-AFCF-078C26B109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Peopl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Justi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, 2009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40384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watching!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amm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mmarizing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rry Potter and the Sorcerer of Sto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Beatle and the Bard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round the Worl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uess Wh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 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d Scien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east Reg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Four SS peop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titude and Longitud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y Star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T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ok ele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2057400"/>
            <a:ext cx="2859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p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nd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finish off the school year well by giving 110 percent and doing my bes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remember to bring my homework every day by putting it in my binder right when I’m done with i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take my time when I do my work and not rush by taking my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32:10Z</dcterms:modified>
  <cp:revision>27</cp:revision>
  <dc:subject/>
  <dc:title>Welcome Mom and Dad!</dc:title>
</cp:coreProperties>
</file>